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2B59-FF1B-44EE-9F21-B4D4DBA78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5743-7401-4558-848E-3B5F0444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0436-627C-4D27-A211-CB85756D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C156-7F1B-4FFA-9F71-44AEC647C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C8D5-F14C-42AC-8B2E-7CD43760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E4DB-BAA1-47AE-A3D2-FBCA0BC9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4B8F-6278-48DF-AE04-21CE5C8B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BBE6-A65A-44CA-A0CA-3E493DB8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89D6-D1F8-4B40-9051-00D8C85B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34FF-E575-4510-8E14-A80C398F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BB58-5E42-45A8-9367-B73F33A5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96A4-2BD4-4299-AD5F-371F0F9B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0581-8A24-4740-A31A-1012B01236B8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agffgaadw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21:24:03Z</dcterms:created>
  <dc:creator>Chris Schelble User</dc:creator>
  <dc:description/>
  <dc:language>en-US</dc:language>
  <cp:lastModifiedBy>Chris Schelble User</cp:lastModifiedBy>
  <dcterms:modified xsi:type="dcterms:W3CDTF">2010-04-18T21:24:32Z</dcterms:modified>
  <cp:revision>1</cp:revision>
  <dc:subject/>
  <dc:title>gagffgaadwes</dc:title>
</cp:coreProperties>
</file>